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BBC1-0CFC-4943-BB01-9EB94BCE06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EB4-CE75-4A42-BDDA-CAD873F9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969-A6A8-4626-A14D-7E914DBC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7CE-0828-4AF6-B892-A5320F8E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A11-9989-4398-92F1-C6AF46F5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7E4A-0084-46B9-A6B3-BCB3E141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7480-BC4D-42BC-9070-C0B90C5D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490B-3A7E-494A-815F-93D1008A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1993-C263-4B02-A502-51AA7F62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57F3-08C6-459C-92A1-1B534670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5816-DF68-476C-80A6-8266D717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6F4E-1847-4C6B-AF5E-44B1C0E3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EDA-43DF-4323-921D-B6B5DCF5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FFB5-DC0F-404C-B324-127EC179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D325-E0D0-403F-84AD-3019D220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9C38-5718-4517-B3F8-2CC9FC31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15E3-FFA6-4CC6-963B-433CB31B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E21C-A3E6-4487-B1B8-9A21E109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442-2413-4CB4-AAA4-A2538539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039-1DCA-4CCD-8AC8-ED8A7293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F15-DAA2-41F7-A850-F6A2E6E0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A42-0227-49CA-BDE2-F4274C0C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087-F95A-4068-90ED-A70466B3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61C-6435-49CC-A2A2-829F439D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880-B47A-433E-9D55-E94EA3D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CA20-8E06-487E-B507-134D1B087F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00F4-4C2D-4DA0-87EC-46F0DBE658C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LEGION</cp:lastModifiedBy>
  <dcterms:modified xsi:type="dcterms:W3CDTF">2017-07-03T11:27:24Z</dcterms:modified>
  <cp:revision>9</cp:revision>
  <dc:subject>The Drugs Revolution and the Development of Penicillin</dc:subject>
  <dc:title>The Drugs Revolution and the Development of Penicillin</dc:title>
</cp:coreProperties>
</file>